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67A0C36-93F2-4926-A1CF-76F2FAE41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CA16424-68EB-4796-BAE6-73BD5412A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7422807-FD23-4D15-8B77-242BF1F30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167E8A8-76EE-47D0-BBE9-947CCA037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9BD3-426D-4164-9F97-F9309040E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F8C8-2D72-480B-BB76-AB5B8B96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0CF3-14E4-4AB0-BD21-B95A20DC8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9C00-4AB8-4F0F-989B-855301DC8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6187-FEC7-47E7-AA74-48274CAE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22FB-A595-4394-8982-A7295A45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6101-6EEB-4018-B575-2CE556F4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5B2B-3377-4538-A2F5-E51E8950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6BA9-1943-4CC8-B098-9918263A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844B-C14C-4F36-B2CC-0D414CBF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5E83-0237-4487-84EB-A80E6A6B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6323-2CDF-43C9-8967-1D1AD34F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2319-2461-4C94-8F38-6F86FD7181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Hzgzim5m7oU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E8klKdhNop8" TargetMode="External"/><Relationship Id="rId2" Type="http://schemas.openxmlformats.org/officeDocument/2006/relationships/hyperlink" Target="http://prezi.com/66g7oobhs8xi/metacognition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fcff9"/>
                </a:solidFill>
                <a:latin typeface="Calibri"/>
              </a:rPr>
              <a:t>Strategies for Deepening Comprehension: </a:t>
            </a:r>
            <a:br>
              <a:rPr sz="4400"/>
            </a:br>
            <a:r>
              <a:rPr b="1" i="1" lang="en-US" sz="4400" spc="-1" strike="noStrike">
                <a:solidFill>
                  <a:srgbClr val="9aea7a"/>
                </a:solidFill>
                <a:latin typeface="Calibri"/>
              </a:rPr>
              <a:t>Enabling Your Students to Have an Aha! Moment</a:t>
            </a:r>
            <a:r>
              <a:rPr b="0" i="1" lang="en-US" sz="4400" spc="-1" strike="noStrike">
                <a:solidFill>
                  <a:srgbClr val="3b78d1"/>
                </a:solidFill>
                <a:latin typeface="Calibri"/>
              </a:rPr>
              <a:t> </a:t>
            </a:r>
            <a:br>
              <a:rPr sz="72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4572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Ms. Molly Cauterucc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Ms. Karen Sandoz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puzzle"/>
          <p:cNvPicPr/>
          <p:nvPr/>
        </p:nvPicPr>
        <p:blipFill>
          <a:blip r:embed="rId1"/>
          <a:stretch/>
        </p:blipFill>
        <p:spPr>
          <a:xfrm>
            <a:off x="2819520" y="3076560"/>
            <a:ext cx="342900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puzzle"/>
          <p:cNvPicPr/>
          <p:nvPr/>
        </p:nvPicPr>
        <p:blipFill>
          <a:blip r:embed="rId1"/>
          <a:stretch/>
        </p:blipFill>
        <p:spPr>
          <a:xfrm>
            <a:off x="1371600" y="2514600"/>
            <a:ext cx="6400800" cy="38656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0" y="0"/>
            <a:ext cx="9144000" cy="23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Freestyle Script"/>
              </a:rPr>
              <a:t>PUZZLE 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What strategies did your group members use to complete the puzz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What were your reactions and thoughts while solving the puzz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How did you talk yourself through solving the puzz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1502023-2.jpg"/>
          <p:cNvPicPr/>
          <p:nvPr/>
        </p:nvPicPr>
        <p:blipFill>
          <a:blip r:embed="rId1"/>
          <a:stretch/>
        </p:blipFill>
        <p:spPr>
          <a:xfrm>
            <a:off x="1447920" y="1600200"/>
            <a:ext cx="6318000" cy="49528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2362320" y="380880"/>
            <a:ext cx="434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reestyle Script"/>
              </a:rPr>
              <a:t>Little Things are Bi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stitcherladyxx080100103.jpg"/>
          <p:cNvPicPr/>
          <p:nvPr/>
        </p:nvPicPr>
        <p:blipFill>
          <a:blip r:embed="rId1"/>
          <a:stretch/>
        </p:blipFill>
        <p:spPr>
          <a:xfrm>
            <a:off x="2590920" y="2286000"/>
            <a:ext cx="3936960" cy="29527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1295280" y="990720"/>
            <a:ext cx="6629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Story Cha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5"/>
          <p:cNvSpPr/>
          <p:nvPr/>
        </p:nvSpPr>
        <p:spPr>
          <a:xfrm>
            <a:off x="380880" y="1143000"/>
            <a:ext cx="8382240" cy="5562720"/>
          </a:xfrm>
          <a:custGeom>
            <a:avLst/>
            <a:gdLst>
              <a:gd name="textAreaLeft" fmla="*/ 360360 w 8382240"/>
              <a:gd name="textAreaRight" fmla="*/ 8021880 w 8382240"/>
              <a:gd name="textAreaTop" fmla="*/ 360360 h 5562720"/>
              <a:gd name="textAreaBottom" fmla="*/ 5202360 h 5562720"/>
            </a:gdLst>
            <a:ahLst/>
            <a:rect l="textAreaLeft" t="textAreaTop" r="textAreaRight" b="textAreaBottom"/>
            <a:pathLst>
              <a:path w="32547" h="21600">
                <a:moveTo>
                  <a:pt x="0" y="0"/>
                </a:moveTo>
                <a:lnTo>
                  <a:pt x="32547" y="0"/>
                </a:lnTo>
                <a:lnTo>
                  <a:pt x="32547" y="21600"/>
                </a:lnTo>
                <a:lnTo>
                  <a:pt x="0" y="21600"/>
                </a:lnTo>
                <a:close/>
              </a:path>
              <a:path fill="lightenLess" w="32547" h="21600">
                <a:moveTo>
                  <a:pt x="0" y="0"/>
                </a:moveTo>
                <a:lnTo>
                  <a:pt x="32547" y="0"/>
                </a:lnTo>
                <a:lnTo>
                  <a:pt x="31147" y="1400"/>
                </a:lnTo>
                <a:lnTo>
                  <a:pt x="1400" y="1400"/>
                </a:lnTo>
                <a:close/>
              </a:path>
              <a:path fill="darken" w="32547" h="21600">
                <a:moveTo>
                  <a:pt x="32547" y="0"/>
                </a:moveTo>
                <a:lnTo>
                  <a:pt x="32547" y="21600"/>
                </a:lnTo>
                <a:lnTo>
                  <a:pt x="31147" y="20200"/>
                </a:lnTo>
                <a:lnTo>
                  <a:pt x="31147" y="1400"/>
                </a:lnTo>
                <a:close/>
              </a:path>
              <a:path fill="darkenLess" w="32547" h="21600">
                <a:moveTo>
                  <a:pt x="32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47" y="20200"/>
                </a:lnTo>
                <a:close/>
              </a:path>
              <a:path fill="lighten" w="32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47" h="21600">
                <a:moveTo>
                  <a:pt x="9267" y="7301"/>
                </a:moveTo>
                <a:lnTo>
                  <a:pt x="10181" y="7301"/>
                </a:lnTo>
                <a:lnTo>
                  <a:pt x="10564" y="7667"/>
                </a:lnTo>
                <a:lnTo>
                  <a:pt x="19773" y="7667"/>
                </a:lnTo>
                <a:lnTo>
                  <a:pt x="20330" y="8224"/>
                </a:lnTo>
                <a:lnTo>
                  <a:pt x="20330" y="8772"/>
                </a:lnTo>
                <a:lnTo>
                  <a:pt x="22175" y="8772"/>
                </a:lnTo>
                <a:lnTo>
                  <a:pt x="22540" y="8224"/>
                </a:lnTo>
                <a:lnTo>
                  <a:pt x="23280" y="8224"/>
                </a:lnTo>
                <a:lnTo>
                  <a:pt x="23280" y="13376"/>
                </a:lnTo>
                <a:lnTo>
                  <a:pt x="22540" y="13376"/>
                </a:lnTo>
                <a:lnTo>
                  <a:pt x="22175" y="12828"/>
                </a:lnTo>
                <a:lnTo>
                  <a:pt x="20330" y="12828"/>
                </a:lnTo>
                <a:lnTo>
                  <a:pt x="20330" y="14107"/>
                </a:lnTo>
                <a:lnTo>
                  <a:pt x="10747" y="14107"/>
                </a:lnTo>
                <a:lnTo>
                  <a:pt x="10747" y="9877"/>
                </a:lnTo>
                <a:lnTo>
                  <a:pt x="10564" y="9877"/>
                </a:lnTo>
                <a:lnTo>
                  <a:pt x="10181" y="10243"/>
                </a:lnTo>
                <a:lnTo>
                  <a:pt x="9267" y="10243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371600" y="0"/>
            <a:ext cx="678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d5"/>
                </a:solidFill>
                <a:latin typeface="Freestyle Script"/>
              </a:rPr>
              <a:t>Thinking about cheating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990720" y="380880"/>
            <a:ext cx="6705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Freestyle Script"/>
              </a:rPr>
              <a:t>Using Op-Ed cartoons to teach higher order critical think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http://www.cse.buffalo.edu/~rapaport/575/F07/Zits-20051018-metacognition.gif"/>
          <p:cNvPicPr/>
          <p:nvPr/>
        </p:nvPicPr>
        <p:blipFill>
          <a:blip r:embed="rId1"/>
          <a:stretch/>
        </p:blipFill>
        <p:spPr>
          <a:xfrm>
            <a:off x="228600" y="2286000"/>
            <a:ext cx="868680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://serc.carleton.edu/images/NAGTWorkshops/earlycareer/teaching/learning_styles.jpg"/>
          <p:cNvPicPr/>
          <p:nvPr/>
        </p:nvPicPr>
        <p:blipFill>
          <a:blip r:embed="rId1"/>
          <a:stretch/>
        </p:blipFill>
        <p:spPr>
          <a:xfrm>
            <a:off x="380880" y="685800"/>
            <a:ext cx="738036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www.unco.edu/cebs/psychology/kevinpugh/motivation_project/347_sum07/final/SelfRegulation/calvininterestinschool.jpg"/>
          <p:cNvPicPr/>
          <p:nvPr/>
        </p:nvPicPr>
        <p:blipFill>
          <a:blip r:embed="rId1"/>
          <a:stretch/>
        </p:blipFill>
        <p:spPr>
          <a:xfrm>
            <a:off x="228600" y="1981080"/>
            <a:ext cx="861048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www.unco.edu/cebs/psychology/kevinpugh/motivation_project/347_sum07/final/SelfRegulation/calvinsnake.gif"/>
          <p:cNvPicPr/>
          <p:nvPr/>
        </p:nvPicPr>
        <p:blipFill>
          <a:blip r:embed="rId1"/>
          <a:stretch/>
        </p:blipFill>
        <p:spPr>
          <a:xfrm>
            <a:off x="380880" y="838080"/>
            <a:ext cx="84013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1219320" y="0"/>
            <a:ext cx="678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d5"/>
                </a:solidFill>
                <a:latin typeface="Freestyle Script"/>
              </a:rPr>
              <a:t>Implications for instruc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457200" y="1447920"/>
            <a:ext cx="8229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cognitive development supports students' internalization of strategies. It does this through a conscious focus on the implementation of plans of attack. Metacognitive development fosters student autonomy through self-monitoring and self-assessment (Walqui, 1992). An example is teaching what a "good" reader does as he or she rea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124080" y="31240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learngen.org/Resources/lgend101_norm1/3000/3100_4/3130/3131alias2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http://1.bp.blogspot.com/_mLL990zi8EM/TLBsNjCILeI/AAAAAAAAACw/JAq_WdXMM20/s1600/IMG_1940.JPG"/>
          <p:cNvPicPr/>
          <p:nvPr/>
        </p:nvPicPr>
        <p:blipFill>
          <a:blip r:embed="rId1"/>
          <a:stretch/>
        </p:blipFill>
        <p:spPr>
          <a:xfrm>
            <a:off x="304920" y="4114800"/>
            <a:ext cx="3295440" cy="2409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http://1.bp.blogspot.com/_mLL990zi8EM/TLHeT96eJfI/AAAAAAAAADI/eliHzyFrIo0/s1600/IMG_2073.JPG"/>
          <p:cNvPicPr/>
          <p:nvPr/>
        </p:nvPicPr>
        <p:blipFill>
          <a:blip r:embed="rId2"/>
          <a:stretch/>
        </p:blipFill>
        <p:spPr>
          <a:xfrm>
            <a:off x="3733920" y="4114800"/>
            <a:ext cx="3295440" cy="2190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Image 05"/>
          <p:cNvPicPr/>
          <p:nvPr/>
        </p:nvPicPr>
        <p:blipFill>
          <a:blip r:embed="rId3"/>
          <a:stretch/>
        </p:blipFill>
        <p:spPr>
          <a:xfrm>
            <a:off x="6324480" y="4419720"/>
            <a:ext cx="25401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cf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228600" y="198108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puzzle"/>
          <p:cNvPicPr/>
          <p:nvPr/>
        </p:nvPicPr>
        <p:blipFill>
          <a:blip r:embed="rId1"/>
          <a:stretch/>
        </p:blipFill>
        <p:spPr>
          <a:xfrm>
            <a:off x="685800" y="1828800"/>
            <a:ext cx="7620120" cy="4600440"/>
          </a:xfrm>
          <a:prstGeom prst="rect">
            <a:avLst/>
          </a:prstGeom>
          <a:ln w="0">
            <a:noFill/>
          </a:ln>
        </p:spPr>
      </p:pic>
      <p:sp>
        <p:nvSpPr>
          <p:cNvPr id="87" name="WordArt 11"/>
          <p:cNvSpPr txBox="1"/>
          <p:nvPr/>
        </p:nvSpPr>
        <p:spPr>
          <a:xfrm>
            <a:off x="2819520" y="609480"/>
            <a:ext cx="33242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xploration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d9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228600" y="228600"/>
            <a:ext cx="89154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tegies for Deepening Comprehen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abling Your Students to Have an Aha! Mo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Presented by Karen Sandoz and Molly Cauteruc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May 13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9:00 a.m. – 3:00 p.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I. 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        Welcome!  Introd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II. 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        Anticipator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9900cc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The Power of Words video c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9900cc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Power Point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9900cc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Puzzles and Metacog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9900cc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Work S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4d19"/>
                </a:solidFill>
                <a:latin typeface="Arial"/>
              </a:rPr>
              <a:t>~ LUNCH 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9900cc"/>
              </a:buClr>
              <a:buFont typeface="Arial"/>
              <a:buAutoNum type="roman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Video C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9900cc"/>
              </a:buClr>
              <a:buFont typeface="Arial"/>
              <a:buAutoNum type="roman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Using Op-Ed cartoons to teach higher order critical 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9900cc"/>
              </a:buClr>
              <a:buFont typeface="Arial"/>
              <a:buAutoNum type="roman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Expl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"To make an individual metacognitively aware is to ensure that the individual has learned how to learn."   (Garner), 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il_fi" descr="http://www.vbschools.com/sol/images/sol_325.jpg"/>
          <p:cNvPicPr/>
          <p:nvPr/>
        </p:nvPicPr>
        <p:blipFill>
          <a:blip r:embed="rId1"/>
          <a:stretch/>
        </p:blipFill>
        <p:spPr>
          <a:xfrm>
            <a:off x="5791320" y="2133720"/>
            <a:ext cx="243828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metahead"/>
          <p:cNvPicPr/>
          <p:nvPr/>
        </p:nvPicPr>
        <p:blipFill>
          <a:blip r:embed="rId1"/>
          <a:stretch/>
        </p:blipFill>
        <p:spPr>
          <a:xfrm>
            <a:off x="3352680" y="533520"/>
            <a:ext cx="2527560" cy="3809880"/>
          </a:xfrm>
          <a:prstGeom prst="rect">
            <a:avLst/>
          </a:prstGeom>
          <a:ln w="0">
            <a:noFill/>
          </a:ln>
        </p:spPr>
      </p:pic>
      <p:sp>
        <p:nvSpPr>
          <p:cNvPr id="89" name="WordArt 9"/>
          <p:cNvSpPr txBox="1"/>
          <p:nvPr/>
        </p:nvSpPr>
        <p:spPr>
          <a:xfrm>
            <a:off x="2209680" y="4648320"/>
            <a:ext cx="4876920" cy="181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nk you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be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8"/>
          <p:cNvSpPr/>
          <p:nvPr/>
        </p:nvSpPr>
        <p:spPr>
          <a:xfrm>
            <a:off x="228600" y="533520"/>
            <a:ext cx="868680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nticipatory Gu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lear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judge if you have learned specific mater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self-evaluate throughout the learning cyc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ome metacognitive strategies that you have used to enhance your students’ comprehen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metahead"/>
          <p:cNvPicPr/>
          <p:nvPr/>
        </p:nvPicPr>
        <p:blipFill>
          <a:blip r:embed="rId1"/>
          <a:stretch/>
        </p:blipFill>
        <p:spPr>
          <a:xfrm>
            <a:off x="6399360" y="228600"/>
            <a:ext cx="16174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f3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4">
            <a:hlinkClick r:id="rId1"/>
          </p:cNvPr>
          <p:cNvSpPr/>
          <p:nvPr/>
        </p:nvSpPr>
        <p:spPr>
          <a:xfrm>
            <a:off x="609480" y="1828800"/>
            <a:ext cx="8001000" cy="4724280"/>
          </a:xfrm>
          <a:custGeom>
            <a:avLst/>
            <a:gdLst>
              <a:gd name="textAreaLeft" fmla="*/ 306000 w 8001000"/>
              <a:gd name="textAreaRight" fmla="*/ 7695000 w 8001000"/>
              <a:gd name="textAreaTop" fmla="*/ 306000 h 4724280"/>
              <a:gd name="textAreaBottom" fmla="*/ 4418280 h 4724280"/>
            </a:gdLst>
            <a:ahLst/>
            <a:rect l="textAreaLeft" t="textAreaTop" r="textAreaRight" b="textAreaBottom"/>
            <a:pathLst>
              <a:path w="36580" h="21600">
                <a:moveTo>
                  <a:pt x="0" y="0"/>
                </a:moveTo>
                <a:lnTo>
                  <a:pt x="36580" y="0"/>
                </a:lnTo>
                <a:lnTo>
                  <a:pt x="36580" y="21600"/>
                </a:lnTo>
                <a:lnTo>
                  <a:pt x="0" y="21600"/>
                </a:lnTo>
                <a:close/>
              </a:path>
              <a:path fill="lightenLess" w="36580" h="21600">
                <a:moveTo>
                  <a:pt x="0" y="0"/>
                </a:moveTo>
                <a:lnTo>
                  <a:pt x="36580" y="0"/>
                </a:lnTo>
                <a:lnTo>
                  <a:pt x="35180" y="1400"/>
                </a:lnTo>
                <a:lnTo>
                  <a:pt x="1400" y="1400"/>
                </a:lnTo>
                <a:close/>
              </a:path>
              <a:path fill="darken" w="36580" h="21600">
                <a:moveTo>
                  <a:pt x="36580" y="0"/>
                </a:moveTo>
                <a:lnTo>
                  <a:pt x="36580" y="21600"/>
                </a:lnTo>
                <a:lnTo>
                  <a:pt x="35180" y="20200"/>
                </a:lnTo>
                <a:lnTo>
                  <a:pt x="35180" y="1400"/>
                </a:lnTo>
                <a:close/>
              </a:path>
              <a:path fill="darkenLess" w="36580" h="21600">
                <a:moveTo>
                  <a:pt x="36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80" y="20200"/>
                </a:lnTo>
                <a:close/>
              </a:path>
              <a:path fill="lighten" w="36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80" h="21600">
                <a:moveTo>
                  <a:pt x="11284" y="7301"/>
                </a:moveTo>
                <a:lnTo>
                  <a:pt x="12198" y="7301"/>
                </a:lnTo>
                <a:lnTo>
                  <a:pt x="12581" y="7667"/>
                </a:lnTo>
                <a:lnTo>
                  <a:pt x="21789" y="7667"/>
                </a:lnTo>
                <a:lnTo>
                  <a:pt x="22346" y="8224"/>
                </a:lnTo>
                <a:lnTo>
                  <a:pt x="22346" y="8772"/>
                </a:lnTo>
                <a:lnTo>
                  <a:pt x="24191" y="8772"/>
                </a:lnTo>
                <a:lnTo>
                  <a:pt x="24557" y="8224"/>
                </a:lnTo>
                <a:lnTo>
                  <a:pt x="25297" y="8224"/>
                </a:lnTo>
                <a:lnTo>
                  <a:pt x="25297" y="13376"/>
                </a:lnTo>
                <a:lnTo>
                  <a:pt x="24557" y="13376"/>
                </a:lnTo>
                <a:lnTo>
                  <a:pt x="24191" y="12828"/>
                </a:lnTo>
                <a:lnTo>
                  <a:pt x="22346" y="12828"/>
                </a:lnTo>
                <a:lnTo>
                  <a:pt x="22346" y="14107"/>
                </a:lnTo>
                <a:lnTo>
                  <a:pt x="12763" y="14107"/>
                </a:lnTo>
                <a:lnTo>
                  <a:pt x="12763" y="9877"/>
                </a:lnTo>
                <a:lnTo>
                  <a:pt x="12581" y="9877"/>
                </a:lnTo>
                <a:lnTo>
                  <a:pt x="12198" y="10243"/>
                </a:lnTo>
                <a:lnTo>
                  <a:pt x="11284" y="10243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7280" y="533520"/>
            <a:ext cx="885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Freestyle Script"/>
              </a:rPr>
              <a:t>The Power of Word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304920" y="685800"/>
            <a:ext cx="883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Arial"/>
              </a:rPr>
              <a:t>The latest National Assessment of Educational Progress shows that </a:t>
            </a:r>
            <a:r>
              <a:rPr b="1" lang="en-US" sz="3200" spc="-1" strike="noStrike" u="sng">
                <a:solidFill>
                  <a:srgbClr val="eeece1"/>
                </a:solidFill>
                <a:uFillTx/>
                <a:latin typeface="Arial"/>
              </a:rPr>
              <a:t>32 percent</a:t>
            </a:r>
            <a:r>
              <a:rPr b="0" lang="en-US" sz="3200" spc="-1" strike="noStrike">
                <a:solidFill>
                  <a:srgbClr val="eeece1"/>
                </a:solidFill>
                <a:latin typeface="Arial"/>
              </a:rPr>
              <a:t> of students entering high school are not proficient readers...“ (http://educationnorthwest.org/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TWOFROGS"/>
          <p:cNvPicPr/>
          <p:nvPr/>
        </p:nvPicPr>
        <p:blipFill>
          <a:blip r:embed="rId1"/>
          <a:stretch/>
        </p:blipFill>
        <p:spPr>
          <a:xfrm>
            <a:off x="3505320" y="2895480"/>
            <a:ext cx="22636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jasztalville.net/weblog/wp-content/uploads/2010/10/metacognition1.gif"/>
          <p:cNvPicPr/>
          <p:nvPr/>
        </p:nvPicPr>
        <p:blipFill>
          <a:blip r:embed="rId1"/>
          <a:stretch/>
        </p:blipFill>
        <p:spPr>
          <a:xfrm>
            <a:off x="228600" y="1828800"/>
            <a:ext cx="86328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04920" y="152280"/>
            <a:ext cx="8458200" cy="66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ff9"/>
                </a:solidFill>
                <a:latin typeface="Times New Roman"/>
              </a:rPr>
              <a:t>Meta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cff9"/>
                </a:solidFill>
                <a:latin typeface="Times New Roman"/>
              </a:rPr>
              <a:t>One of the first definitions of metacognition comes from Flavell (1976), who describes it as ‘</a:t>
            </a:r>
            <a:r>
              <a:rPr b="1" lang="en-US" sz="3200" spc="-1" strike="noStrike" u="sng">
                <a:solidFill>
                  <a:srgbClr val="efcff9"/>
                </a:solidFill>
                <a:uFillTx/>
                <a:latin typeface="Times New Roman"/>
              </a:rPr>
              <a:t>one’s knowledge concerning one’s own cognitive processes and products or anything related to them’.</a:t>
            </a:r>
            <a:r>
              <a:rPr b="0" lang="en-US" sz="3200" spc="-1" strike="noStrike">
                <a:solidFill>
                  <a:srgbClr val="efcff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cff9"/>
                </a:solidFill>
                <a:latin typeface="Times New Roman"/>
              </a:rPr>
              <a:t>He also asserts that metacognition includes </a:t>
            </a:r>
            <a:r>
              <a:rPr b="1" lang="en-US" sz="3200" spc="-1" strike="noStrike" u="sng">
                <a:solidFill>
                  <a:srgbClr val="efcff9"/>
                </a:solidFill>
                <a:uFillTx/>
                <a:latin typeface="Times New Roman"/>
              </a:rPr>
              <a:t>‘the active monitoring and consequent regulation and orchestration’ of information processing activities</a:t>
            </a:r>
            <a:r>
              <a:rPr b="0" lang="en-US" sz="3200" spc="-1" strike="noStrike">
                <a:solidFill>
                  <a:srgbClr val="efcff9"/>
                </a:solidFill>
                <a:latin typeface="Times New Roman"/>
              </a:rPr>
              <a:t> (Flavell 1976: 23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f3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4">
            <a:hlinkClick r:id="rId1"/>
          </p:cNvPr>
          <p:cNvSpPr/>
          <p:nvPr/>
        </p:nvSpPr>
        <p:spPr>
          <a:xfrm>
            <a:off x="609480" y="990720"/>
            <a:ext cx="7696440" cy="4952880"/>
          </a:xfrm>
          <a:custGeom>
            <a:avLst/>
            <a:gdLst>
              <a:gd name="textAreaLeft" fmla="*/ 320760 w 7696440"/>
              <a:gd name="textAreaRight" fmla="*/ 7375680 w 7696440"/>
              <a:gd name="textAreaTop" fmla="*/ 320760 h 4952880"/>
              <a:gd name="textAreaBottom" fmla="*/ 4632120 h 4952880"/>
            </a:gdLst>
            <a:ahLst/>
            <a:rect l="textAreaLeft" t="textAreaTop" r="textAreaRight" b="textAreaBottom"/>
            <a:pathLst>
              <a:path w="33564" h="21600">
                <a:moveTo>
                  <a:pt x="0" y="0"/>
                </a:moveTo>
                <a:lnTo>
                  <a:pt x="33564" y="0"/>
                </a:lnTo>
                <a:lnTo>
                  <a:pt x="33564" y="21600"/>
                </a:lnTo>
                <a:lnTo>
                  <a:pt x="0" y="21600"/>
                </a:lnTo>
                <a:close/>
              </a:path>
              <a:path fill="lightenLess" w="33564" h="21600">
                <a:moveTo>
                  <a:pt x="0" y="0"/>
                </a:moveTo>
                <a:lnTo>
                  <a:pt x="33564" y="0"/>
                </a:lnTo>
                <a:lnTo>
                  <a:pt x="32164" y="1400"/>
                </a:lnTo>
                <a:lnTo>
                  <a:pt x="1400" y="1400"/>
                </a:lnTo>
                <a:close/>
              </a:path>
              <a:path fill="darken" w="33564" h="21600">
                <a:moveTo>
                  <a:pt x="33564" y="0"/>
                </a:moveTo>
                <a:lnTo>
                  <a:pt x="33564" y="21600"/>
                </a:lnTo>
                <a:lnTo>
                  <a:pt x="32164" y="20200"/>
                </a:lnTo>
                <a:lnTo>
                  <a:pt x="32164" y="1400"/>
                </a:lnTo>
                <a:close/>
              </a:path>
              <a:path fill="darkenLess" w="33564" h="21600">
                <a:moveTo>
                  <a:pt x="33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64" y="20200"/>
                </a:lnTo>
                <a:close/>
              </a:path>
              <a:path fill="lighten" w="33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64" h="21600">
                <a:moveTo>
                  <a:pt x="9776" y="7301"/>
                </a:moveTo>
                <a:lnTo>
                  <a:pt x="10689" y="7301"/>
                </a:lnTo>
                <a:lnTo>
                  <a:pt x="11072" y="7667"/>
                </a:lnTo>
                <a:lnTo>
                  <a:pt x="20281" y="7667"/>
                </a:lnTo>
                <a:lnTo>
                  <a:pt x="20838" y="8224"/>
                </a:lnTo>
                <a:lnTo>
                  <a:pt x="20838" y="8772"/>
                </a:lnTo>
                <a:lnTo>
                  <a:pt x="22683" y="8772"/>
                </a:lnTo>
                <a:lnTo>
                  <a:pt x="23049" y="8224"/>
                </a:lnTo>
                <a:lnTo>
                  <a:pt x="23789" y="8224"/>
                </a:lnTo>
                <a:lnTo>
                  <a:pt x="23789" y="13376"/>
                </a:lnTo>
                <a:lnTo>
                  <a:pt x="23049" y="13376"/>
                </a:lnTo>
                <a:lnTo>
                  <a:pt x="22683" y="12828"/>
                </a:lnTo>
                <a:lnTo>
                  <a:pt x="20838" y="12828"/>
                </a:lnTo>
                <a:lnTo>
                  <a:pt x="20838" y="14107"/>
                </a:lnTo>
                <a:lnTo>
                  <a:pt x="11255" y="14107"/>
                </a:lnTo>
                <a:lnTo>
                  <a:pt x="11255" y="9877"/>
                </a:lnTo>
                <a:lnTo>
                  <a:pt x="11072" y="9877"/>
                </a:lnTo>
                <a:lnTo>
                  <a:pt x="10689" y="10243"/>
                </a:lnTo>
                <a:lnTo>
                  <a:pt x="9776" y="10243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57200" y="0"/>
            <a:ext cx="830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Freestyle Script"/>
              </a:rPr>
              <a:t>Metacognition:  Learning about Learn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1828800" y="617220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prezi.com/66g7oobhs8xi/metacognition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304920" y="304920"/>
            <a:ext cx="8610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enough agreement of the definition of the word ‘game’ so it can be used as an adequate metaphor for life or at least some aspects of life? I believe every game has some sort of strategy.  Given that every player suspends disbelief and enters the spirit of the game, every player has a method in which they use to seek to win the game.   What is your method? What is your strateg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b Bi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http://sciblogs.co.nz/guestwork/files/2010/03/brain1.jpg"/>
          <p:cNvPicPr/>
          <p:nvPr/>
        </p:nvPicPr>
        <p:blipFill>
          <a:blip r:embed="rId1"/>
          <a:stretch/>
        </p:blipFill>
        <p:spPr>
          <a:xfrm>
            <a:off x="2286000" y="4191120"/>
            <a:ext cx="236232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0:53:45Z</dcterms:created>
  <dc:creator>Karen LaViola</dc:creator>
  <dc:description/>
  <dc:language>en-US</dc:language>
  <cp:lastModifiedBy>Jason LaViola</cp:lastModifiedBy>
  <dcterms:modified xsi:type="dcterms:W3CDTF">2011-05-13T01:56:31Z</dcterms:modified>
  <cp:revision>88</cp:revision>
  <dc:subject/>
  <dc:title>Slide 1</dc:title>
</cp:coreProperties>
</file>